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F9B-9956-431B-B96F-522C7386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399-BBCB-4AB3-BA2B-7A202CBD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CDD-A967-46BC-9080-1136C79B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A21-6C87-4469-BCA0-806F3CAF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C87-65B5-45D9-A342-B6928BD0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60D-5ABD-467D-8DE3-6242B217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44E-CDA7-4624-A8A8-BEA9ACE6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6C0-3788-41CB-AE8C-1583B02E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827-D30D-440D-9AB4-3E26FAB0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F9E-6BBB-46AB-8770-F9AE88CD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45D-C6F4-4C0E-8655-AC9DDDE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561-F661-4F05-84DD-521CE1B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AA71-13FB-4F07-B7EC-63FA94F5D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appa%20organizzativa.do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757520"/>
            <a:ext cx="61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RMAZIONE TU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ORMAZIONE TUTOR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UDINE 28 febbraio 2005</a:t>
            </a:r>
            <a:br>
              <a:rPr sz="2400"/>
            </a:b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Scuola Media Via Petr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308640"/>
            <a:ext cx="3960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Beuzer-Cino-Ferraro-Gallici-Massaro-Pic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2490840"/>
            <a:ext cx="8139240" cy="15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8760" y="1914480"/>
            <a:ext cx="1942920" cy="4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99000" y="1914480"/>
            <a:ext cx="1942920" cy="4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99240" y="1914480"/>
            <a:ext cx="1943280" cy="4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63180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68120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3060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2904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7844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2784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7868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755640" y="3573360"/>
            <a:ext cx="1298520" cy="287280"/>
          </a:xfrm>
          <a:prstGeom prst="rect">
            <a:avLst/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tività non in presen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040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864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868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4520" y="3328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440" y="1914480"/>
            <a:ext cx="1800000" cy="4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1698480"/>
            <a:ext cx="0" cy="33116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4804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8808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776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6780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2160" y="3328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1240" y="3328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91960" y="3328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25920" y="1698480"/>
            <a:ext cx="0" cy="33116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08880" y="1698480"/>
            <a:ext cx="0" cy="33116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2610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,5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05080" y="3857760"/>
            <a:ext cx="0" cy="5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5840" y="4457880"/>
            <a:ext cx="146556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udio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equentazion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zione Docu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67160" y="3894120"/>
            <a:ext cx="0" cy="5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7920" y="4494240"/>
            <a:ext cx="146556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udio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equentazion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zione Docu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54800" y="3894120"/>
            <a:ext cx="0" cy="5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95560" y="4494240"/>
            <a:ext cx="146556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udio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equentazion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zione Docu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15160" y="3894120"/>
            <a:ext cx="0" cy="5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56280" y="4494240"/>
            <a:ext cx="146556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udio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equentazion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zione Docu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72640" y="5108400"/>
            <a:ext cx="128880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aboratori intera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i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e attivit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760" y="5877000"/>
            <a:ext cx="503280" cy="288720"/>
          </a:xfrm>
          <a:prstGeom prst="rect">
            <a:avLst/>
          </a:prstGeom>
          <a:solidFill>
            <a:srgbClr val="33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6560" y="5877000"/>
            <a:ext cx="124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tività in presen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760" y="6237360"/>
            <a:ext cx="503280" cy="288720"/>
          </a:xfrm>
          <a:prstGeom prst="rect">
            <a:avLst/>
          </a:prstGeom>
          <a:solidFill>
            <a:srgbClr val="cc0000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6560" y="6237360"/>
            <a:ext cx="27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tività non in  presenza (online – domest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747280" y="29098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720" y="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ROPOSTA ORGANIZZAZIONE DEL COR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108000" y="29224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" y="13381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6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44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3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1193760"/>
            <a:ext cx="43200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5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052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9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1193760"/>
            <a:ext cx="43200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78600" y="1193760"/>
            <a:ext cx="43200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7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3916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1/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23160" y="1193760"/>
            <a:ext cx="43200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8/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03520" y="1193760"/>
            <a:ext cx="431640" cy="289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1" idx="2"/>
            <a:endCxn id="99" idx="2"/>
          </p:cNvCxnSpPr>
          <p:nvPr/>
        </p:nvCxnSpPr>
        <p:spPr>
          <a:xfrm flipH="1" rot="16200000">
            <a:off x="1377000" y="961920"/>
            <a:ext cx="2160" cy="1081800"/>
          </a:xfrm>
          <a:prstGeom prst="bentConnector3">
            <a:avLst>
              <a:gd name="adj1" fmla="val 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82800" y="148284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0"/>
            <a:endCxn id="92" idx="0"/>
          </p:cNvCxnSpPr>
          <p:nvPr/>
        </p:nvCxnSpPr>
        <p:spPr>
          <a:xfrm flipH="1" rot="16200000">
            <a:off x="2436480" y="655920"/>
            <a:ext cx="2520" cy="1037520"/>
          </a:xfrm>
          <a:prstGeom prst="bentConnector3">
            <a:avLst>
              <a:gd name="adj1" fmla="val -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062080" y="76212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3464640" y="961920"/>
            <a:ext cx="2160" cy="1081800"/>
          </a:xfrm>
          <a:prstGeom prst="bentConnector3">
            <a:avLst>
              <a:gd name="adj1" fmla="val 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3070080" y="148284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/>
          <p:nvPr/>
        </p:nvCxnSpPr>
        <p:spPr>
          <a:xfrm flipH="1" rot="16200000">
            <a:off x="5553720" y="961920"/>
            <a:ext cx="2160" cy="1081800"/>
          </a:xfrm>
          <a:prstGeom prst="bentConnector3">
            <a:avLst>
              <a:gd name="adj1" fmla="val 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159520" y="148284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H="1" rot="16200000">
            <a:off x="7714440" y="961920"/>
            <a:ext cx="2160" cy="1081800"/>
          </a:xfrm>
          <a:prstGeom prst="bentConnector3">
            <a:avLst>
              <a:gd name="adj1" fmla="val 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7319880" y="148284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/>
          <p:nvPr/>
        </p:nvCxnSpPr>
        <p:spPr>
          <a:xfrm flipH="1" rot="16200000">
            <a:off x="4525560" y="656280"/>
            <a:ext cx="2520" cy="1037160"/>
          </a:xfrm>
          <a:prstGeom prst="bentConnector3">
            <a:avLst>
              <a:gd name="adj1" fmla="val -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151160" y="76212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6635520" y="655920"/>
            <a:ext cx="2520" cy="1037520"/>
          </a:xfrm>
          <a:prstGeom prst="bentConnector3">
            <a:avLst>
              <a:gd name="adj1" fmla="val -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6261120" y="76212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01160" y="74916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97" idx="0"/>
            <a:endCxn id="98" idx="0"/>
          </p:cNvCxnSpPr>
          <p:nvPr/>
        </p:nvCxnSpPr>
        <p:spPr>
          <a:xfrm flipH="1" rot="16200000">
            <a:off x="8596080" y="832320"/>
            <a:ext cx="2520" cy="684720"/>
          </a:xfrm>
          <a:prstGeom prst="bentConnector3">
            <a:avLst>
              <a:gd name="adj1" fmla="val -13200000"/>
            </a:avLst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16" name=""/>
          <p:cNvCxnSpPr>
            <a:stCxn id="90" idx="0"/>
            <a:endCxn id="91" idx="0"/>
          </p:cNvCxnSpPr>
          <p:nvPr/>
        </p:nvCxnSpPr>
        <p:spPr>
          <a:xfrm flipH="1" rot="16200000">
            <a:off x="531360" y="869040"/>
            <a:ext cx="2520" cy="611640"/>
          </a:xfrm>
          <a:prstGeom prst="bentConnector3">
            <a:avLst>
              <a:gd name="adj1" fmla="val -13200000"/>
            </a:avLst>
          </a:prstGeom>
          <a:ln w="9360">
            <a:solidFill>
              <a:srgbClr val="80808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19160" y="76212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 settim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9920" y="5108400"/>
            <a:ext cx="128880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aboratori intera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i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e attivit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7560" y="5108400"/>
            <a:ext cx="1288800" cy="55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aboratori intera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i mater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tre attivit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7720" y="3570120"/>
            <a:ext cx="1298520" cy="287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tività non in presen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83040" y="3570120"/>
            <a:ext cx="1298520" cy="287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tività non in presen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64280" y="3570120"/>
            <a:ext cx="1298520" cy="287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tività non in presen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492280"/>
            <a:ext cx="6264360" cy="1584360"/>
          </a:xfrm>
          <a:prstGeom prst="rect">
            <a:avLst/>
          </a:prstGeom>
          <a:gradFill rotWithShape="0">
            <a:gsLst>
              <a:gs pos="0">
                <a:srgbClr val="bbe0e3">
                  <a:alpha val="41176"/>
                </a:srgbClr>
              </a:gs>
              <a:gs pos="100000">
                <a:srgbClr val="566768">
                  <a:alpha val="3803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2360" y="6308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6381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Tutor Gallici Pa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655308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ap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7948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549360"/>
            <a:ext cx="3724200" cy="73188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ERTURA DEL 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395280" y="47628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2360" y="2133720"/>
            <a:ext cx="3527280" cy="3660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oscenza del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zione del piano di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zione dell’architettura della piatta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zioni tecniche ed organizzative del per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agine bisogni formativi ed aspet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zione della classe vi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133720"/>
            <a:ext cx="309564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ZIONI E 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tr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z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308640"/>
            <a:ext cx="3960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Beuzer-Cino-Ferraro-Gallici-Massaro-Pic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7493"/>
                </a:moveTo>
                <a:lnTo>
                  <a:pt x="9961" y="7493"/>
                </a:lnTo>
                <a:lnTo>
                  <a:pt x="9961" y="12828"/>
                </a:lnTo>
                <a:cubicBezTo>
                  <a:pt x="9961" y="13751"/>
                  <a:pt x="10762" y="14482"/>
                  <a:pt x="11797" y="14482"/>
                </a:cubicBezTo>
                <a:lnTo>
                  <a:pt x="13460" y="14482"/>
                </a:lnTo>
                <a:cubicBezTo>
                  <a:pt x="14495" y="14482"/>
                  <a:pt x="15296" y="13751"/>
                  <a:pt x="15296" y="12828"/>
                </a:cubicBezTo>
                <a:lnTo>
                  <a:pt x="15296" y="7493"/>
                </a:lnTo>
                <a:lnTo>
                  <a:pt x="13460" y="7493"/>
                </a:lnTo>
                <a:lnTo>
                  <a:pt x="16967" y="3985"/>
                </a:lnTo>
                <a:lnTo>
                  <a:pt x="20640" y="7493"/>
                </a:lnTo>
                <a:lnTo>
                  <a:pt x="18804" y="7493"/>
                </a:lnTo>
                <a:lnTo>
                  <a:pt x="18804" y="12828"/>
                </a:lnTo>
                <a:cubicBezTo>
                  <a:pt x="18804" y="15596"/>
                  <a:pt x="16227" y="18155"/>
                  <a:pt x="13460" y="18155"/>
                </a:cubicBezTo>
                <a:lnTo>
                  <a:pt x="11797" y="18155"/>
                </a:lnTo>
                <a:cubicBezTo>
                  <a:pt x="9030" y="18155"/>
                  <a:pt x="6453" y="15596"/>
                  <a:pt x="645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1" idx="2"/>
            <a:endCxn id="130" idx="1"/>
          </p:cNvCxnSpPr>
          <p:nvPr/>
        </p:nvCxnSpPr>
        <p:spPr>
          <a:xfrm flipH="1" rot="16200000">
            <a:off x="3370680" y="2409480"/>
            <a:ext cx="637560" cy="248508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90792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836640"/>
            <a:ext cx="4967280" cy="73188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O INCONTRO DI SE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2708280"/>
            <a:ext cx="3527280" cy="2837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igazione in piatta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stegno te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zione e riflessione della se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zione dei gru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stazione dell’ambiente di lavoro in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o al lavoro di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2133720"/>
            <a:ext cx="3095640" cy="1465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UNZIONI E 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str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rganizz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nimatore/moder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acili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6308640"/>
            <a:ext cx="3960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Beuzer-Cino-Ferraro-Gallici-Massaro-Pic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8" idx="2"/>
            <a:endCxn id="137" idx="1"/>
          </p:cNvCxnSpPr>
          <p:nvPr/>
        </p:nvCxnSpPr>
        <p:spPr>
          <a:xfrm flipH="1" rot="16200000">
            <a:off x="3355920" y="2700360"/>
            <a:ext cx="524880" cy="23403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81010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7493"/>
                </a:moveTo>
                <a:lnTo>
                  <a:pt x="9978" y="7493"/>
                </a:lnTo>
                <a:lnTo>
                  <a:pt x="9978" y="12828"/>
                </a:lnTo>
                <a:cubicBezTo>
                  <a:pt x="9978" y="13751"/>
                  <a:pt x="10778" y="14482"/>
                  <a:pt x="11814" y="14482"/>
                </a:cubicBezTo>
                <a:lnTo>
                  <a:pt x="13476" y="14482"/>
                </a:lnTo>
                <a:cubicBezTo>
                  <a:pt x="14512" y="14482"/>
                  <a:pt x="15313" y="13751"/>
                  <a:pt x="15313" y="12828"/>
                </a:cubicBezTo>
                <a:lnTo>
                  <a:pt x="15313" y="7493"/>
                </a:lnTo>
                <a:lnTo>
                  <a:pt x="13476" y="7493"/>
                </a:lnTo>
                <a:lnTo>
                  <a:pt x="16984" y="3985"/>
                </a:lnTo>
                <a:lnTo>
                  <a:pt x="20657" y="7493"/>
                </a:lnTo>
                <a:lnTo>
                  <a:pt x="18821" y="7493"/>
                </a:lnTo>
                <a:lnTo>
                  <a:pt x="18821" y="12828"/>
                </a:lnTo>
                <a:cubicBezTo>
                  <a:pt x="18821" y="15596"/>
                  <a:pt x="16244" y="18155"/>
                  <a:pt x="13476" y="18155"/>
                </a:cubicBezTo>
                <a:lnTo>
                  <a:pt x="11814" y="18155"/>
                </a:lnTo>
                <a:cubicBezTo>
                  <a:pt x="9046" y="18155"/>
                  <a:pt x="6470" y="15596"/>
                  <a:pt x="6470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00360" y="836640"/>
            <a:ext cx="4967280" cy="73188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IVITA’ NON IN PRES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3068640"/>
            <a:ext cx="3527280" cy="2288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aggio della classe vi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um di 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back sui materiali prodotti dai corsi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nalazione di ris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1916280"/>
            <a:ext cx="3095640" cy="20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UNZIONI E 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nimatore/moderatore della classe vi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acili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unc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caffolding (sosteni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ediatore di ris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907920"/>
            <a:ext cx="1298520" cy="287640"/>
          </a:xfrm>
          <a:prstGeom prst="rect">
            <a:avLst/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tività non in presen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3960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Beuzer-Cino-Ferraro-Gallici-Massaro-Pic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4" idx="2"/>
            <a:endCxn id="143" idx="1"/>
          </p:cNvCxnSpPr>
          <p:nvPr/>
        </p:nvCxnSpPr>
        <p:spPr>
          <a:xfrm flipH="1" rot="16200000">
            <a:off x="3371040" y="2800800"/>
            <a:ext cx="278280" cy="25567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81010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7493"/>
                </a:moveTo>
                <a:lnTo>
                  <a:pt x="9978" y="7493"/>
                </a:lnTo>
                <a:lnTo>
                  <a:pt x="9978" y="12828"/>
                </a:lnTo>
                <a:cubicBezTo>
                  <a:pt x="9978" y="13751"/>
                  <a:pt x="10778" y="14482"/>
                  <a:pt x="11814" y="14482"/>
                </a:cubicBezTo>
                <a:lnTo>
                  <a:pt x="13476" y="14482"/>
                </a:lnTo>
                <a:cubicBezTo>
                  <a:pt x="14512" y="14482"/>
                  <a:pt x="15313" y="13751"/>
                  <a:pt x="15313" y="12828"/>
                </a:cubicBezTo>
                <a:lnTo>
                  <a:pt x="15313" y="7493"/>
                </a:lnTo>
                <a:lnTo>
                  <a:pt x="13476" y="7493"/>
                </a:lnTo>
                <a:lnTo>
                  <a:pt x="16984" y="3985"/>
                </a:lnTo>
                <a:lnTo>
                  <a:pt x="20657" y="7493"/>
                </a:lnTo>
                <a:lnTo>
                  <a:pt x="18821" y="7493"/>
                </a:lnTo>
                <a:lnTo>
                  <a:pt x="18821" y="12828"/>
                </a:lnTo>
                <a:cubicBezTo>
                  <a:pt x="18821" y="15596"/>
                  <a:pt x="16244" y="18155"/>
                  <a:pt x="13476" y="18155"/>
                </a:cubicBezTo>
                <a:lnTo>
                  <a:pt x="11814" y="18155"/>
                </a:lnTo>
                <a:cubicBezTo>
                  <a:pt x="9046" y="18155"/>
                  <a:pt x="6470" y="15596"/>
                  <a:pt x="6470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700360" y="836640"/>
            <a:ext cx="5400720" cy="73188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O INCONTRO DI SE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88000" y="3141720"/>
            <a:ext cx="3527280" cy="20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o alla presentazione del lavoro dei gru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rio di bo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zione sintesi del lavoro dei gru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133720"/>
            <a:ext cx="309564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UNZIONI E 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str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rganizz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nimatore/moder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acili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ordin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907920"/>
            <a:ext cx="360360" cy="35748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308640"/>
            <a:ext cx="3960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Beuzer-Cino-Ferraro-Gallici-Massaro-Pic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1" idx="2"/>
            <a:endCxn id="150" idx="1"/>
          </p:cNvCxnSpPr>
          <p:nvPr/>
        </p:nvCxnSpPr>
        <p:spPr>
          <a:xfrm flipH="1" rot="16200000">
            <a:off x="3482280" y="2848680"/>
            <a:ext cx="272160" cy="23403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81010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7493"/>
                </a:moveTo>
                <a:lnTo>
                  <a:pt x="9978" y="7493"/>
                </a:lnTo>
                <a:lnTo>
                  <a:pt x="9978" y="12828"/>
                </a:lnTo>
                <a:cubicBezTo>
                  <a:pt x="9978" y="13751"/>
                  <a:pt x="10778" y="14482"/>
                  <a:pt x="11814" y="14482"/>
                </a:cubicBezTo>
                <a:lnTo>
                  <a:pt x="13476" y="14482"/>
                </a:lnTo>
                <a:cubicBezTo>
                  <a:pt x="14512" y="14482"/>
                  <a:pt x="15313" y="13751"/>
                  <a:pt x="15313" y="12828"/>
                </a:cubicBezTo>
                <a:lnTo>
                  <a:pt x="15313" y="7493"/>
                </a:lnTo>
                <a:lnTo>
                  <a:pt x="13476" y="7493"/>
                </a:lnTo>
                <a:lnTo>
                  <a:pt x="16984" y="3985"/>
                </a:lnTo>
                <a:lnTo>
                  <a:pt x="20657" y="7493"/>
                </a:lnTo>
                <a:lnTo>
                  <a:pt x="18821" y="7493"/>
                </a:lnTo>
                <a:lnTo>
                  <a:pt x="18821" y="12828"/>
                </a:lnTo>
                <a:cubicBezTo>
                  <a:pt x="18821" y="15596"/>
                  <a:pt x="16244" y="18155"/>
                  <a:pt x="13476" y="18155"/>
                </a:cubicBezTo>
                <a:lnTo>
                  <a:pt x="11814" y="18155"/>
                </a:lnTo>
                <a:cubicBezTo>
                  <a:pt x="9046" y="18155"/>
                  <a:pt x="6470" y="15596"/>
                  <a:pt x="6470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24000" y="836640"/>
            <a:ext cx="5761080" cy="86364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MINARIO DI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3141720"/>
            <a:ext cx="352764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et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zione sintesi dei lavori di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rdinamento dell’inco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2349360"/>
            <a:ext cx="309564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ZIONI E 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z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tore/moder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rdinat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907920"/>
            <a:ext cx="360360" cy="3589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6308640"/>
            <a:ext cx="3960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Beuzer-Cino-Ferraro-Gallici-Massaro-Pic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2"/>
            <a:endCxn id="157" idx="1"/>
          </p:cNvCxnSpPr>
          <p:nvPr/>
        </p:nvCxnSpPr>
        <p:spPr>
          <a:xfrm flipH="1" rot="16200000">
            <a:off x="3382920" y="2396880"/>
            <a:ext cx="467640" cy="27720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81010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7493"/>
                </a:moveTo>
                <a:lnTo>
                  <a:pt x="9978" y="7493"/>
                </a:lnTo>
                <a:lnTo>
                  <a:pt x="9978" y="12828"/>
                </a:lnTo>
                <a:cubicBezTo>
                  <a:pt x="9978" y="13751"/>
                  <a:pt x="10778" y="14482"/>
                  <a:pt x="11814" y="14482"/>
                </a:cubicBezTo>
                <a:lnTo>
                  <a:pt x="13476" y="14482"/>
                </a:lnTo>
                <a:cubicBezTo>
                  <a:pt x="14512" y="14482"/>
                  <a:pt x="15313" y="13751"/>
                  <a:pt x="15313" y="12828"/>
                </a:cubicBezTo>
                <a:lnTo>
                  <a:pt x="15313" y="7493"/>
                </a:lnTo>
                <a:lnTo>
                  <a:pt x="13476" y="7493"/>
                </a:lnTo>
                <a:lnTo>
                  <a:pt x="16984" y="3985"/>
                </a:lnTo>
                <a:lnTo>
                  <a:pt x="20657" y="7493"/>
                </a:lnTo>
                <a:lnTo>
                  <a:pt x="18821" y="7493"/>
                </a:lnTo>
                <a:lnTo>
                  <a:pt x="18821" y="12828"/>
                </a:lnTo>
                <a:cubicBezTo>
                  <a:pt x="18821" y="15596"/>
                  <a:pt x="16244" y="18155"/>
                  <a:pt x="13476" y="18155"/>
                </a:cubicBezTo>
                <a:lnTo>
                  <a:pt x="11814" y="18155"/>
                </a:lnTo>
                <a:cubicBezTo>
                  <a:pt x="9046" y="18155"/>
                  <a:pt x="6470" y="15596"/>
                  <a:pt x="6470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0000" y="263700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PPA ESEMPLIFICATIVA DELL’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6308640"/>
            <a:ext cx="3960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Beuzer-Cino-Ferraro-Gallici-Massaro-Pic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010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7493"/>
                </a:moveTo>
                <a:lnTo>
                  <a:pt x="9978" y="7493"/>
                </a:lnTo>
                <a:lnTo>
                  <a:pt x="9978" y="12828"/>
                </a:lnTo>
                <a:cubicBezTo>
                  <a:pt x="9978" y="13751"/>
                  <a:pt x="10778" y="14482"/>
                  <a:pt x="11814" y="14482"/>
                </a:cubicBezTo>
                <a:lnTo>
                  <a:pt x="13476" y="14482"/>
                </a:lnTo>
                <a:cubicBezTo>
                  <a:pt x="14512" y="14482"/>
                  <a:pt x="15313" y="13751"/>
                  <a:pt x="15313" y="12828"/>
                </a:cubicBezTo>
                <a:lnTo>
                  <a:pt x="15313" y="7493"/>
                </a:lnTo>
                <a:lnTo>
                  <a:pt x="13476" y="7493"/>
                </a:lnTo>
                <a:lnTo>
                  <a:pt x="16984" y="3985"/>
                </a:lnTo>
                <a:lnTo>
                  <a:pt x="20657" y="7493"/>
                </a:lnTo>
                <a:lnTo>
                  <a:pt x="18821" y="7493"/>
                </a:lnTo>
                <a:lnTo>
                  <a:pt x="18821" y="12828"/>
                </a:lnTo>
                <a:cubicBezTo>
                  <a:pt x="18821" y="15596"/>
                  <a:pt x="16244" y="18155"/>
                  <a:pt x="13476" y="18155"/>
                </a:cubicBezTo>
                <a:lnTo>
                  <a:pt x="11814" y="18155"/>
                </a:lnTo>
                <a:cubicBezTo>
                  <a:pt x="9046" y="18155"/>
                  <a:pt x="6470" y="15596"/>
                  <a:pt x="6470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1:57:19Z</dcterms:created>
  <dc:creator>Antonella Piccolo</dc:creator>
  <dc:description/>
  <dc:language>en-US</dc:language>
  <cp:lastModifiedBy>Massaro Giuliana</cp:lastModifiedBy>
  <dcterms:modified xsi:type="dcterms:W3CDTF">2005-02-27T12:09:03Z</dcterms:modified>
  <cp:revision>12</cp:revision>
  <dc:subject/>
  <dc:title>Diapositiva 1</dc:title>
</cp:coreProperties>
</file>